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1084F-FFC2-4A22-9547-43E93BF8E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2404F-23FE-4EE6-B251-04E010301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2C6E5-2DB4-499D-9812-D8C8BC586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61279-9034-4205-8DD2-448CDBC55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2DC61-F398-40AE-B6BD-3E7C398DE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52851-CFFB-43AC-A049-7035DEE2C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44AE0-55BD-4B02-B719-D33948645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FEC8A-31C0-4BC7-A345-E3207FD0E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F68D9-3379-42F7-8101-9144BF464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2B977-E484-4CA2-8936-7DD852A00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4F155-CBE6-45C9-9E66-62526D156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79BE4-BEF9-4D5F-82BC-167385C32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C9F26-715D-4FCA-94BD-4345590BAC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478440"/>
            <a:ext cx="9144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O 1.  Usted decide enviarle $0 al jugador 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tonces, usted se queda con $12000. Y el jugador 2 recibe $0. Es decir, nad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uego, el jugador 2 decide cuánto de los $12000 iniciales quiere enviarle de vuel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O 2.  Usted decide enviarle $3000 al jugador 2.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tonces, usted se queda con $9000. Y el jugador 2 recibe $9000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uego, el jugador 2 decide cuánto de $9000 más $12000 quiere enviarle de vuel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O 3.  Usted decide enviarle $6000 al jugador 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tonces, usted se queda con $6000. Y el jugador 2 recibe $1800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uego, el jugador 2 decide cuánto de $18000 más $10000 quiere enviarle de vuel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O 4.  Usted decide enviarle $9000 al jugador 2.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tonces, usted se queda con $3000. Y el jugador 2 recibe $27000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uego, el jugador 2 decide cuánto de $27000 más $10000 quiere enviarle de vuel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O 5.  Usted decide enviarle $12000 al jugador 2.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tonces, usted se queda con $0. Y el jugador 2 recibe $36000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uego, el jugador 2 decide cuánto de $36000 más $10000 quiere enviarle de vuel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2124000" y="620640"/>
            <a:ext cx="201636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556000" y="836640"/>
            <a:ext cx="50328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203640" y="83664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19400" y="62064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643280" y="549360"/>
            <a:ext cx="201636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5148360" y="758880"/>
            <a:ext cx="39060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5638680" y="54936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197080" y="4653000"/>
            <a:ext cx="201600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2627280" y="4941720"/>
            <a:ext cx="46512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276720" y="4869000"/>
            <a:ext cx="43164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3192480" y="465300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716360" y="4653000"/>
            <a:ext cx="201636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5148360" y="4941720"/>
            <a:ext cx="46332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796000" y="501336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711760" y="465300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50920" y="2565360"/>
            <a:ext cx="201600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84360" y="2774880"/>
            <a:ext cx="46188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332000" y="278136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1246320" y="256536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6588000" y="2421000"/>
            <a:ext cx="201636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7093080" y="2708280"/>
            <a:ext cx="46332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7667640" y="2637000"/>
            <a:ext cx="4176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9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7583400" y="242100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268360" y="1125360"/>
            <a:ext cx="50328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1413000"/>
            <a:ext cx="50328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340000" y="1773360"/>
            <a:ext cx="50328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556000" y="2060640"/>
            <a:ext cx="50328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419640" y="119700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203640" y="155736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492360" y="1844640"/>
            <a:ext cx="41616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276720" y="213372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788000" y="1700280"/>
            <a:ext cx="39060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5219640" y="1989000"/>
            <a:ext cx="3906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5724360" y="765000"/>
            <a:ext cx="3906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6012000" y="1052640"/>
            <a:ext cx="39024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796000" y="1341360"/>
            <a:ext cx="3906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6156360" y="1628640"/>
            <a:ext cx="3906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5796000" y="1989000"/>
            <a:ext cx="3906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148360" y="1341360"/>
            <a:ext cx="3906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4788000" y="1052640"/>
            <a:ext cx="39060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732720" y="2997360"/>
            <a:ext cx="46332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7093080" y="3284640"/>
            <a:ext cx="46332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6804000" y="3573360"/>
            <a:ext cx="46368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7093080" y="3860640"/>
            <a:ext cx="46332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885080" y="2924280"/>
            <a:ext cx="4176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9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7667640" y="3284640"/>
            <a:ext cx="4176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9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8028000" y="3573360"/>
            <a:ext cx="4176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9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7667640" y="3860640"/>
            <a:ext cx="4176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9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56360" y="530064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5796000" y="558972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6156360" y="587700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5796000" y="616572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4859280" y="5300640"/>
            <a:ext cx="46368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148360" y="5589720"/>
            <a:ext cx="46332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2360" y="5877000"/>
            <a:ext cx="46368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219640" y="6165720"/>
            <a:ext cx="46368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3492360" y="5157720"/>
            <a:ext cx="432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3276720" y="551664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635280" y="5805360"/>
            <a:ext cx="432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3276720" y="616572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2340000" y="5300640"/>
            <a:ext cx="46512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627280" y="5589720"/>
            <a:ext cx="46512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411280" y="5877000"/>
            <a:ext cx="46512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2627280" y="6165720"/>
            <a:ext cx="46512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1547640" y="3068640"/>
            <a:ext cx="432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1332000" y="3357720"/>
            <a:ext cx="43164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1619280" y="371628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1332000" y="407664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95280" y="3068640"/>
            <a:ext cx="46188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55640" y="3357720"/>
            <a:ext cx="46188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468360" y="3645000"/>
            <a:ext cx="46188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684360" y="4005360"/>
            <a:ext cx="46188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" descr=""/>
          <p:cNvPicPr/>
          <p:nvPr/>
        </p:nvPicPr>
        <p:blipFill>
          <a:blip r:embed="rId1"/>
          <a:stretch/>
        </p:blipFill>
        <p:spPr>
          <a:xfrm>
            <a:off x="1476360" y="1700280"/>
            <a:ext cx="5800680" cy="36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7989840" cy="61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______ </a:t>
            </a: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Número de personas</a:t>
            </a:r>
            <a:br>
              <a:rPr sz="3200"/>
            </a:br>
            <a:br>
              <a:rPr sz="3200"/>
            </a:b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______ Mujeres </a:t>
            </a:r>
            <a:br>
              <a:rPr sz="3200"/>
            </a:b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______ Hombres</a:t>
            </a:r>
            <a:br>
              <a:rPr sz="3200"/>
            </a:b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     </a:t>
            </a:r>
            <a:br>
              <a:rPr sz="3200"/>
            </a:b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______ Estrato 1 y 2</a:t>
            </a:r>
            <a:br>
              <a:rPr sz="3200"/>
            </a:b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______ Estrato 3 </a:t>
            </a:r>
            <a:br>
              <a:rPr sz="3200"/>
            </a:b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______ Estrato 4</a:t>
            </a:r>
            <a:br>
              <a:rPr sz="3200"/>
            </a:b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______ Estrato 5 y 6</a:t>
            </a:r>
            <a:br>
              <a:rPr sz="3200"/>
            </a:br>
            <a:br>
              <a:rPr sz="3200"/>
            </a:b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______ Secundaria incompleta o menos  ______ Secundaria completa </a:t>
            </a:r>
            <a:br>
              <a:rPr sz="3200"/>
            </a:b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______ Superior incompleto o más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124000" y="333360"/>
            <a:ext cx="4753080" cy="24368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979640" y="2997360"/>
            <a:ext cx="4032360" cy="35528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771640" y="4149720"/>
            <a:ext cx="374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2                              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8360" y="6165720"/>
            <a:ext cx="36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$20000 + 18 x $2000 = $56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95640" y="6165720"/>
            <a:ext cx="27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18 x $2000 = $36000</a:t>
            </a: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124000" y="333360"/>
            <a:ext cx="4753080" cy="24368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979640" y="2997360"/>
            <a:ext cx="4032360" cy="3552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771640" y="4149720"/>
            <a:ext cx="374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16                             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6165720"/>
            <a:ext cx="36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$20000 + 4 x $2000 = $28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995640" y="6165720"/>
            <a:ext cx="27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4 x $2000 = $8000</a:t>
            </a: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124000" y="333360"/>
            <a:ext cx="4753080" cy="24368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979640" y="2997360"/>
            <a:ext cx="4032360" cy="35528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771640" y="4149720"/>
            <a:ext cx="374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4                              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68360" y="6165720"/>
            <a:ext cx="36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$20000 + 16 x $2000 = $52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95640" y="6165720"/>
            <a:ext cx="27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16 x $2000 = $32000</a:t>
            </a: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124000" y="333360"/>
            <a:ext cx="4753080" cy="24368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1979640" y="2997360"/>
            <a:ext cx="4032360" cy="35528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771640" y="4149720"/>
            <a:ext cx="374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17                            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6165720"/>
            <a:ext cx="36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$20000 + 3 x $2000 = $26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995640" y="6165720"/>
            <a:ext cx="27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3 x $2000 = $6000</a:t>
            </a: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7989840" cy="61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______ </a:t>
            </a: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Número de personas</a:t>
            </a:r>
            <a:br>
              <a:rPr sz="3200"/>
            </a:br>
            <a:br>
              <a:rPr sz="3200"/>
            </a:b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______ Mujeres </a:t>
            </a:r>
            <a:br>
              <a:rPr sz="3200"/>
            </a:b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______ Hombres</a:t>
            </a:r>
            <a:br>
              <a:rPr sz="3200"/>
            </a:b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     </a:t>
            </a:r>
            <a:br>
              <a:rPr sz="3200"/>
            </a:b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______ Estrato 1 y 2</a:t>
            </a:r>
            <a:br>
              <a:rPr sz="3200"/>
            </a:b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______ Estrato 3 </a:t>
            </a:r>
            <a:br>
              <a:rPr sz="3200"/>
            </a:b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______ Estrato 4</a:t>
            </a:r>
            <a:br>
              <a:rPr sz="3200"/>
            </a:b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______ Estrato 5 y 6</a:t>
            </a:r>
            <a:br>
              <a:rPr sz="3200"/>
            </a:br>
            <a:br>
              <a:rPr sz="3200"/>
            </a:b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______ Secundaria incompleta o menos  ______ Secundaria completa </a:t>
            </a:r>
            <a:br>
              <a:rPr sz="3200"/>
            </a:b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______ Superior incompleto o más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2124000" y="620640"/>
            <a:ext cx="201636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556000" y="836640"/>
            <a:ext cx="50328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203640" y="83664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19400" y="62064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643280" y="549360"/>
            <a:ext cx="201636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48360" y="758880"/>
            <a:ext cx="39060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638680" y="54936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197080" y="4653000"/>
            <a:ext cx="201600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627280" y="4941720"/>
            <a:ext cx="46512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76720" y="4869000"/>
            <a:ext cx="43164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192480" y="465300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716360" y="4653000"/>
            <a:ext cx="201636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148360" y="4941720"/>
            <a:ext cx="46332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796000" y="501336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711760" y="465300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0920" y="2565360"/>
            <a:ext cx="201600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84360" y="2774880"/>
            <a:ext cx="46188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332000" y="278136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246320" y="256536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588000" y="2421000"/>
            <a:ext cx="201636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708280"/>
            <a:ext cx="46332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667640" y="2637000"/>
            <a:ext cx="4176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9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83400" y="242100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68360" y="1125360"/>
            <a:ext cx="50328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484360" y="1413000"/>
            <a:ext cx="50328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340000" y="1773360"/>
            <a:ext cx="50328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556000" y="2060640"/>
            <a:ext cx="50328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19640" y="119700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03640" y="155736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492360" y="1844640"/>
            <a:ext cx="41616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76720" y="213372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788000" y="1700280"/>
            <a:ext cx="39060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19640" y="1989000"/>
            <a:ext cx="3906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724360" y="765000"/>
            <a:ext cx="3906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012000" y="1052640"/>
            <a:ext cx="39024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796000" y="1341360"/>
            <a:ext cx="3906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156360" y="1628640"/>
            <a:ext cx="3906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796000" y="1989000"/>
            <a:ext cx="3906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148360" y="1341360"/>
            <a:ext cx="3906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88000" y="1052640"/>
            <a:ext cx="39060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732720" y="2997360"/>
            <a:ext cx="46332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093080" y="3284640"/>
            <a:ext cx="46332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804000" y="3573360"/>
            <a:ext cx="46368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093080" y="3860640"/>
            <a:ext cx="46332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885080" y="2924280"/>
            <a:ext cx="4176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9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667640" y="3284640"/>
            <a:ext cx="4176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9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8028000" y="3573360"/>
            <a:ext cx="4176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9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67640" y="3860640"/>
            <a:ext cx="4176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9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156360" y="530064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796000" y="558972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156360" y="587700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796000" y="616572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859280" y="5300640"/>
            <a:ext cx="46368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148360" y="5589720"/>
            <a:ext cx="46332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32360" y="5877000"/>
            <a:ext cx="46368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219640" y="6165720"/>
            <a:ext cx="46368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92360" y="5157720"/>
            <a:ext cx="432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276720" y="551664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635280" y="5805360"/>
            <a:ext cx="432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276720" y="616572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340000" y="5300640"/>
            <a:ext cx="46512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627280" y="5589720"/>
            <a:ext cx="46512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411280" y="5877000"/>
            <a:ext cx="46512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627280" y="6165720"/>
            <a:ext cx="46512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547640" y="3068640"/>
            <a:ext cx="432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32000" y="3357720"/>
            <a:ext cx="43164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619280" y="371628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332000" y="407664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95280" y="3068640"/>
            <a:ext cx="46188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55640" y="3357720"/>
            <a:ext cx="46188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68360" y="3645000"/>
            <a:ext cx="46188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84360" y="4005360"/>
            <a:ext cx="46188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2124000" y="620640"/>
            <a:ext cx="201636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00000" y="2637000"/>
            <a:ext cx="27000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3119040" y="1557360"/>
            <a:ext cx="1260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643280" y="549360"/>
            <a:ext cx="201636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97080" y="4653000"/>
            <a:ext cx="201600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716360" y="4653000"/>
            <a:ext cx="201636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50920" y="2565360"/>
            <a:ext cx="201600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588000" y="2421000"/>
            <a:ext cx="201636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771640" y="692280"/>
            <a:ext cx="27000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258920" y="2637000"/>
            <a:ext cx="27000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132000" y="692280"/>
            <a:ext cx="27000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132000" y="1052640"/>
            <a:ext cx="27000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900000" y="2997360"/>
            <a:ext cx="27000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771640" y="1052640"/>
            <a:ext cx="27000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258920" y="2997360"/>
            <a:ext cx="27000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292720" y="620640"/>
            <a:ext cx="2700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651640" y="620640"/>
            <a:ext cx="26964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292720" y="907920"/>
            <a:ext cx="2700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651640" y="907920"/>
            <a:ext cx="26964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843280" y="4724280"/>
            <a:ext cx="26964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203640" y="4724280"/>
            <a:ext cx="26964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843280" y="5084640"/>
            <a:ext cx="26964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203640" y="5084640"/>
            <a:ext cx="26964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364000" y="4724280"/>
            <a:ext cx="2700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724360" y="4724280"/>
            <a:ext cx="2700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364000" y="5013360"/>
            <a:ext cx="27000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724360" y="5013360"/>
            <a:ext cx="27000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236000" y="2781360"/>
            <a:ext cx="26964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596360" y="2781360"/>
            <a:ext cx="26964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378160" y="957240"/>
            <a:ext cx="753840" cy="600120"/>
          </a:xfrm>
          <a:custGeom>
            <a:avLst/>
            <a:gdLst/>
            <a:ahLst/>
            <a:rect l="l" t="t" r="r" b="b"/>
            <a:pathLst>
              <a:path w="21" h="15">
                <a:moveTo>
                  <a:pt x="21" y="15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132000" y="907920"/>
            <a:ext cx="719280" cy="649440"/>
          </a:xfrm>
          <a:custGeom>
            <a:avLst/>
            <a:gdLst/>
            <a:ahLst/>
            <a:rect l="l" t="t" r="r" b="b"/>
            <a:pathLst>
              <a:path w="425" h="394">
                <a:moveTo>
                  <a:pt x="0" y="394"/>
                </a:moveTo>
                <a:lnTo>
                  <a:pt x="42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1258560" y="3500280"/>
            <a:ext cx="12600" cy="100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3203280" y="5589720"/>
            <a:ext cx="1260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5724360" y="5589720"/>
            <a:ext cx="1296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7596000" y="3357720"/>
            <a:ext cx="1260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5651280" y="1484280"/>
            <a:ext cx="1260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2360" y="5013360"/>
            <a:ext cx="792000" cy="576360"/>
          </a:xfrm>
          <a:custGeom>
            <a:avLst/>
            <a:gdLst/>
            <a:ahLst/>
            <a:rect l="l" t="t" r="r" b="b"/>
            <a:pathLst>
              <a:path w="21" h="15">
                <a:moveTo>
                  <a:pt x="21" y="15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804000" y="2781360"/>
            <a:ext cx="792360" cy="576360"/>
          </a:xfrm>
          <a:custGeom>
            <a:avLst/>
            <a:gdLst/>
            <a:ahLst/>
            <a:rect l="l" t="t" r="r" b="b"/>
            <a:pathLst>
              <a:path w="21" h="15">
                <a:moveTo>
                  <a:pt x="21" y="15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932360" y="907920"/>
            <a:ext cx="754200" cy="600120"/>
          </a:xfrm>
          <a:custGeom>
            <a:avLst/>
            <a:gdLst/>
            <a:ahLst/>
            <a:rect l="l" t="t" r="r" b="b"/>
            <a:pathLst>
              <a:path w="21" h="15">
                <a:moveTo>
                  <a:pt x="21" y="15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411280" y="5013360"/>
            <a:ext cx="792360" cy="576360"/>
          </a:xfrm>
          <a:custGeom>
            <a:avLst/>
            <a:gdLst/>
            <a:ahLst/>
            <a:rect l="l" t="t" r="r" b="b"/>
            <a:pathLst>
              <a:path w="21" h="15">
                <a:moveTo>
                  <a:pt x="21" y="15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68360" y="2924280"/>
            <a:ext cx="790560" cy="576000"/>
          </a:xfrm>
          <a:custGeom>
            <a:avLst/>
            <a:gdLst/>
            <a:ahLst/>
            <a:rect l="l" t="t" r="r" b="b"/>
            <a:pathLst>
              <a:path w="21" h="15">
                <a:moveTo>
                  <a:pt x="21" y="15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258920" y="2924280"/>
            <a:ext cx="792000" cy="576000"/>
          </a:xfrm>
          <a:custGeom>
            <a:avLst/>
            <a:gdLst/>
            <a:ahLst/>
            <a:rect l="l" t="t" r="r" b="b"/>
            <a:pathLst>
              <a:path w="425" h="394">
                <a:moveTo>
                  <a:pt x="0" y="394"/>
                </a:moveTo>
                <a:lnTo>
                  <a:pt x="42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203640" y="4941720"/>
            <a:ext cx="720720" cy="648000"/>
          </a:xfrm>
          <a:custGeom>
            <a:avLst/>
            <a:gdLst/>
            <a:ahLst/>
            <a:rect l="l" t="t" r="r" b="b"/>
            <a:pathLst>
              <a:path w="425" h="394">
                <a:moveTo>
                  <a:pt x="0" y="394"/>
                </a:moveTo>
                <a:lnTo>
                  <a:pt x="42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724360" y="4941720"/>
            <a:ext cx="719280" cy="649440"/>
          </a:xfrm>
          <a:custGeom>
            <a:avLst/>
            <a:gdLst/>
            <a:ahLst/>
            <a:rect l="l" t="t" r="r" b="b"/>
            <a:pathLst>
              <a:path w="425" h="394">
                <a:moveTo>
                  <a:pt x="0" y="394"/>
                </a:moveTo>
                <a:lnTo>
                  <a:pt x="42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596360" y="2708280"/>
            <a:ext cx="718920" cy="649440"/>
          </a:xfrm>
          <a:custGeom>
            <a:avLst/>
            <a:gdLst/>
            <a:ahLst/>
            <a:rect l="l" t="t" r="r" b="b"/>
            <a:pathLst>
              <a:path w="425" h="394">
                <a:moveTo>
                  <a:pt x="0" y="394"/>
                </a:moveTo>
                <a:lnTo>
                  <a:pt x="42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651640" y="836640"/>
            <a:ext cx="718920" cy="649440"/>
          </a:xfrm>
          <a:custGeom>
            <a:avLst/>
            <a:gdLst/>
            <a:ahLst/>
            <a:rect l="l" t="t" r="r" b="b"/>
            <a:pathLst>
              <a:path w="425" h="394">
                <a:moveTo>
                  <a:pt x="0" y="394"/>
                </a:moveTo>
                <a:lnTo>
                  <a:pt x="42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596360" y="2492280"/>
            <a:ext cx="26964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236000" y="2492280"/>
            <a:ext cx="26964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195640" y="1268280"/>
            <a:ext cx="50328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340000" y="1628640"/>
            <a:ext cx="50328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484360" y="2060640"/>
            <a:ext cx="50328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276720" y="206064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564000" y="119700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492360" y="1628640"/>
            <a:ext cx="41616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788000" y="1197000"/>
            <a:ext cx="39060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084720" y="1268280"/>
            <a:ext cx="3906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076720" y="1989000"/>
            <a:ext cx="3906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932360" y="1628640"/>
            <a:ext cx="3906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940360" y="1628640"/>
            <a:ext cx="3906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724360" y="2060640"/>
            <a:ext cx="39060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32720" y="3068640"/>
            <a:ext cx="46332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877080" y="3500280"/>
            <a:ext cx="46368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020000" y="3860640"/>
            <a:ext cx="46332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740720" y="3860640"/>
            <a:ext cx="4176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9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956720" y="3068640"/>
            <a:ext cx="41724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9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8028000" y="3500280"/>
            <a:ext cx="4176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9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867280" y="6165720"/>
            <a:ext cx="41616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084720" y="5300640"/>
            <a:ext cx="41616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012000" y="580536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19640" y="6165720"/>
            <a:ext cx="46368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859280" y="5445000"/>
            <a:ext cx="46368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219640" y="5805360"/>
            <a:ext cx="46368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348000" y="6165720"/>
            <a:ext cx="432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4000" y="537372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348000" y="5805360"/>
            <a:ext cx="432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340000" y="5373720"/>
            <a:ext cx="46512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627280" y="5805360"/>
            <a:ext cx="46512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627280" y="6165720"/>
            <a:ext cx="46512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403280" y="4005360"/>
            <a:ext cx="43200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476360" y="357336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763640" y="3213000"/>
            <a:ext cx="432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95280" y="3213000"/>
            <a:ext cx="46188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84360" y="3573360"/>
            <a:ext cx="46188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84360" y="4005360"/>
            <a:ext cx="46188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2124000" y="620640"/>
            <a:ext cx="201636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119400" y="62064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643280" y="549360"/>
            <a:ext cx="201636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638680" y="54936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197080" y="4653000"/>
            <a:ext cx="201600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192480" y="465300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16360" y="4653000"/>
            <a:ext cx="201636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711760" y="465300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50920" y="2565360"/>
            <a:ext cx="201600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246320" y="256536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588000" y="2421000"/>
            <a:ext cx="201636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583400" y="242100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11280" y="285264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11280" y="314172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11280" y="342900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11280" y="371628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11280" y="4005360"/>
            <a:ext cx="53496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332000" y="285264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84360" y="501336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484360" y="530064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484360" y="5589720"/>
            <a:ext cx="53496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484360" y="587700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556000" y="616572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276720" y="494172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494172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796000" y="4869000"/>
            <a:ext cx="53496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796000" y="515772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796000" y="551664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796000" y="580536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796000" y="6093000"/>
            <a:ext cx="53496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332000" y="314172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332000" y="342900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332000" y="371628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332000" y="4005360"/>
            <a:ext cx="53496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76720" y="5229360"/>
            <a:ext cx="53496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276720" y="551664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276720" y="580536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276720" y="6093000"/>
            <a:ext cx="53496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076720" y="5229360"/>
            <a:ext cx="53496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076720" y="551664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5076720" y="580536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076720" y="6093000"/>
            <a:ext cx="53496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948360" y="270828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948360" y="2997360"/>
            <a:ext cx="53496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948360" y="3284640"/>
            <a:ext cx="53496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948360" y="357336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948360" y="386064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7667640" y="270828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667640" y="2997360"/>
            <a:ext cx="53496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7667640" y="3284640"/>
            <a:ext cx="53496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7667640" y="357336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7667640" y="386064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5003640" y="836640"/>
            <a:ext cx="5353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003640" y="1125360"/>
            <a:ext cx="5353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003640" y="1413000"/>
            <a:ext cx="5353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03640" y="1700280"/>
            <a:ext cx="5353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03640" y="1989000"/>
            <a:ext cx="5353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5724360" y="836640"/>
            <a:ext cx="5353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5724360" y="1125360"/>
            <a:ext cx="5353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724360" y="1413000"/>
            <a:ext cx="5353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24360" y="1700280"/>
            <a:ext cx="5353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724360" y="1989000"/>
            <a:ext cx="5353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484360" y="90792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2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84360" y="119700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2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484360" y="155736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2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84360" y="184464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2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556000" y="2133720"/>
            <a:ext cx="53496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2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203640" y="90792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203640" y="119700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203640" y="155736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203640" y="184464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203640" y="2133720"/>
            <a:ext cx="53496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7T05:00:55Z</dcterms:created>
  <dc:creator>Natalcalo</dc:creator>
  <dc:description/>
  <dc:language>en-US</dc:language>
  <cp:lastModifiedBy>Facultad de Economía</cp:lastModifiedBy>
  <dcterms:modified xsi:type="dcterms:W3CDTF">2007-03-09T21:24:45Z</dcterms:modified>
  <cp:revision>40</cp:revision>
  <dc:subject/>
  <dc:title>Diapositiva 1</dc:title>
</cp:coreProperties>
</file>