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7362-5605-46A8-ABA2-A3D510EAF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A35F-AE84-4A63-BFD5-02279068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B907-5709-407F-A51F-2B4C7414D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0119-BEF7-47DA-9950-B210A31DA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914E-74D8-403C-8294-B54DC5D1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DB1A-BEE1-4E20-ADB6-97F2B68F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83C3-ABAE-4710-B67F-500AF602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779F-2AFE-4589-A32A-162ACDAC4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F964-BC8F-404B-ADBE-00F327C5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1424-8F68-4FDF-ADD5-B49142C8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B3D0-E90E-4FC3-B9D7-97664BE8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5866-FB4A-41DC-BD8D-AD02ED32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A139-11A6-42B3-B0FD-CF8CD5360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784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1.  Usted decide enviarle $0 al jugador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12000. Y el jugador 2 recibe $0. Es decir, n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los $12000 iniciales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2.  Usted decide enviarle $3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9000. Y el jugador 2 recibe $9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9000 más $12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3.  Usted decide enviarle $6000 al jugador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6000. Y el jugador 2 recibe $18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18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4.  Usted decide enviarle $9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3000. Y el jugador 2 recibe $27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27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5.  Usted decide enviarle $12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0. Y el jugador 2 recibe $36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36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56000" y="836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03640" y="836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48360" y="7588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27280" y="4941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486900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48360" y="494172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796000" y="5013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4360" y="277488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32000" y="2781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093080" y="270828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67640" y="263700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68360" y="112536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141300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340000" y="177336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5600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1964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03640" y="1557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92360" y="1844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76720" y="2133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88000" y="17002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1964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765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012000" y="1052640"/>
            <a:ext cx="3902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600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56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9600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4836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788000" y="1052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32720" y="299736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093080" y="3284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04000" y="3573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09308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885080" y="2924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67640" y="3284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028000" y="357336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66764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56360" y="530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796000" y="5589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156360" y="587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796000" y="6165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859280" y="530064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148360" y="558972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2360" y="587700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492360" y="5157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76720" y="551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63528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76720" y="6165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340000" y="530064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27280" y="5589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11280" y="587700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47640" y="306864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32000" y="335772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19280" y="371628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332000" y="407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95280" y="306864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55640" y="335772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8360" y="364500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580068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989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______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Número de personas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Mujeres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Hombres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1 y 2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3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4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5 y 6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ecundaria incompleta o menos  ______ Secundaria completa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uperior incompleto o má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2                            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18 x $2000 = $5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8 x $2000 = $36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6                     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4 x $2000 = $28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4 x $2000 = $8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4                             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16 x $2000 = $5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6 x $2000 = $32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7                    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3 x $2000 = $2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3 x $2000 = $6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989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______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Número de personas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Mujeres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Hombres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1 y 2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3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4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5 y 6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ecundaria incompleta o menos  ______ Secundaria completa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uperior incompleto o má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836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3640" y="836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48360" y="7588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27280" y="4941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86900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48360" y="494172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96000" y="5013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277488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32000" y="2781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70828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67640" y="263700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68360" y="112536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84360" y="141300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40000" y="177336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00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1964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3640" y="1557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1844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2133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8000" y="17002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1964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4360" y="765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1052640"/>
            <a:ext cx="3902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9600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56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600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836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1052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32720" y="299736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3284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04000" y="3573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9308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85080" y="2924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67640" y="3284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028000" y="357336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6764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56360" y="530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96000" y="5589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587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0" y="6165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59280" y="530064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48360" y="558972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587700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360" y="5157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551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3528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6165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530064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27280" y="5589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11280" y="587700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47640" y="306864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2000" y="335772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19280" y="371628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407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306864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335772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364500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263700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119040" y="155736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71640" y="69228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58920" y="263700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32000" y="69228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105264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2997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71640" y="105264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58920" y="2997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92720" y="62064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51640" y="620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92720" y="90792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51640" y="90792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43280" y="4724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3640" y="4724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43280" y="5084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3640" y="5084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64000" y="472428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472428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13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24360" y="5013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236000" y="2781360"/>
            <a:ext cx="2696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96360" y="2781360"/>
            <a:ext cx="2696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78160" y="957240"/>
            <a:ext cx="753840" cy="60012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907920"/>
            <a:ext cx="71928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258560" y="3500280"/>
            <a:ext cx="1260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203280" y="558972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724360" y="5589720"/>
            <a:ext cx="129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7596000" y="335772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651280" y="148428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2360" y="5013360"/>
            <a:ext cx="79200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04000" y="2781360"/>
            <a:ext cx="79236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32360" y="907920"/>
            <a:ext cx="754200" cy="60012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11280" y="5013360"/>
            <a:ext cx="79236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2924280"/>
            <a:ext cx="790560" cy="57600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2924280"/>
            <a:ext cx="792000" cy="57600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3640" y="4941720"/>
            <a:ext cx="720720" cy="64800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24360" y="4941720"/>
            <a:ext cx="71928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96360" y="2708280"/>
            <a:ext cx="71892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51640" y="836640"/>
            <a:ext cx="71892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96360" y="2492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2492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95640" y="126828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0000" y="1628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8436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206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400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1628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88000" y="119700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84720" y="126828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7672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32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40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24360" y="2060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32720" y="3068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350028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2000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4072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56720" y="3068640"/>
            <a:ext cx="41724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028000" y="3500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616572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84720" y="5300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2000" y="5805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544500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19640" y="5805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48000" y="6165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4000" y="5373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4800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40000" y="5373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27280" y="580536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03280" y="4005360"/>
            <a:ext cx="43200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76360" y="3573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63640" y="321300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321300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4360" y="357336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1280" y="2852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31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1280" y="3429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3716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1280" y="4005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2000" y="2852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84360" y="501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4360" y="530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84360" y="5589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4360" y="587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56000" y="6165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49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49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96000" y="4869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96000" y="5157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79600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9600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32000" y="31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32000" y="3429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32000" y="3716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32000" y="4005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5229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7672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76720" y="5229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07672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07672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07672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948360" y="2708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948360" y="2997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948360" y="328464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48360" y="357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48360" y="386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67640" y="2708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67640" y="2997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67640" y="328464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67640" y="357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67640" y="386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03640" y="83664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03640" y="112536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03640" y="1413000"/>
            <a:ext cx="5353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03640" y="170028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03640" y="198900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24360" y="83664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24360" y="112536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24360" y="1413000"/>
            <a:ext cx="5353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24360" y="170028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24360" y="198900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84360" y="9079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84360" y="119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484360" y="1557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84360" y="1844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56000" y="2133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03640" y="9079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03640" y="119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03640" y="1557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03640" y="1844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03640" y="2133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05:00:55Z</dcterms:created>
  <dc:creator>Natalcalo</dc:creator>
  <dc:description/>
  <dc:language>en-US</dc:language>
  <cp:lastModifiedBy>Facultad de Economía</cp:lastModifiedBy>
  <dcterms:modified xsi:type="dcterms:W3CDTF">2007-03-09T21:24:45Z</dcterms:modified>
  <cp:revision>40</cp:revision>
  <dc:subject/>
  <dc:title>Diapositiva 1</dc:title>
</cp:coreProperties>
</file>