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0C1B-F86D-483A-AAF2-1B9F482F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0F1-F1C8-401F-A8FD-9432BEF3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1C4-2D65-4DEF-8036-AE3D05AA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0F9-7C5A-49FB-BE81-3B37E77A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724-8859-4FCD-A4A2-FF368D3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E50-A126-4AFD-863D-C968FCC1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4BC-CE3F-4D29-9C00-C49DFA61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2A3-3F4E-41EA-8DF1-8D908E83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D9A-91B3-4187-9867-96C3EAA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14B-9078-4176-A78F-3A0DFCBE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486-51B3-4BAF-BB57-D3FE0A39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9C6-FA27-4D27-99ED-59524A97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588C-5596-468B-9E7E-6CB0591EB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78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1.  Usted decide enviarle $0 al jugador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12000. Y el jugador 2 recibe $0. Es decir, n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los $12000 iniciales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2.  Usted decide enviarle $3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9000. Y el jugador 2 recibe $9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9000 más $12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3.  Usted decide enviarle $6000 al jugador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6000. Y el jugador 2 recibe $18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18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4.  Usted decide enviarle $9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3000. Y el jugador 2 recibe $27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27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5.  Usted decide enviarle $12000 al jugador 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nces, usted se queda con $0. Y el jugador 2 recibe $3600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uego, el jugador 2 decide cuánto de $36000 más $10000 quiere enviarle de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70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580068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2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8 x $2000 = $5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8 x $2000 = $3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4 x $2000 = $2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x $2000 = $8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4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16 x $2000 = $5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6 x $2000 = $32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5308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403236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1640" y="4149720"/>
            <a:ext cx="37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17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616572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$20000 + 3 x $2000 = $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5640" y="616572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3 x $2000 = $6000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989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úmero de personas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Mujeres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Hombres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1 y 2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3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4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Estrato 5 y 6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ecundaria incompleta o menos  ______ Secundaria completa </a:t>
            </a:r>
            <a:br>
              <a:rPr sz="3200"/>
            </a:b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______ Superior incompleto o má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836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836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7588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4941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86900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494172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96000" y="5013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277488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32000" y="2781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70828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67640" y="263700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12536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141300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40000" y="1773360"/>
            <a:ext cx="5032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1557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1844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133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70028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765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1052640"/>
            <a:ext cx="3902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600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134136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052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99736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3284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3573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2924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67640" y="3284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028000" y="357336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6764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530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000" y="5589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87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616572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530064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558972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32360" y="5877000"/>
            <a:ext cx="4636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157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551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6165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40000" y="530064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27280" y="5589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587700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306864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357720"/>
            <a:ext cx="43164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19280" y="371628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7664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06864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35772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64500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119040" y="155736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263700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69228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05264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58920" y="2997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62064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620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90792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90792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4724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328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3640" y="508464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4724280"/>
            <a:ext cx="2700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4360" y="5013360"/>
            <a:ext cx="2700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96360" y="2781360"/>
            <a:ext cx="26964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78160" y="957240"/>
            <a:ext cx="75384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9079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58560" y="3500280"/>
            <a:ext cx="1260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3280" y="5589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24360" y="5589720"/>
            <a:ext cx="129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00" y="335772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651280" y="1484280"/>
            <a:ext cx="126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2360" y="5013360"/>
            <a:ext cx="79200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2781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32360" y="907920"/>
            <a:ext cx="754200" cy="60012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013360"/>
            <a:ext cx="792360" cy="57636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2924280"/>
            <a:ext cx="790560" cy="576000"/>
          </a:xfrm>
          <a:custGeom>
            <a:avLst/>
            <a:gdLst/>
            <a:ahLst/>
            <a:rect l="l" t="t" r="r" b="b"/>
            <a:pathLst>
              <a:path w="21" h="15">
                <a:moveTo>
                  <a:pt x="21" y="1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2924280"/>
            <a:ext cx="792000" cy="576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3640" y="4941720"/>
            <a:ext cx="720720" cy="64800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4941720"/>
            <a:ext cx="71928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96360" y="270828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51640" y="836640"/>
            <a:ext cx="718920" cy="649440"/>
          </a:xfrm>
          <a:custGeom>
            <a:avLst/>
            <a:gdLst/>
            <a:ahLst/>
            <a:rect l="l" t="t" r="r" b="b"/>
            <a:pathLst>
              <a:path w="425" h="394">
                <a:moveTo>
                  <a:pt x="0" y="394"/>
                </a:moveTo>
                <a:lnTo>
                  <a:pt x="42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9636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2492280"/>
            <a:ext cx="26964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95640" y="126828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0000" y="1628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06064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206064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119700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628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119700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126828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76720" y="198900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628640"/>
            <a:ext cx="39060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060640"/>
            <a:ext cx="39060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3068640"/>
            <a:ext cx="4633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50028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3860640"/>
            <a:ext cx="4633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40720" y="386064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3068640"/>
            <a:ext cx="41724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028000" y="3500280"/>
            <a:ext cx="4176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$19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616572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5300640"/>
            <a:ext cx="41616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5805360"/>
            <a:ext cx="415800" cy="20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19640" y="616572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44500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19640" y="5805360"/>
            <a:ext cx="4636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616572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4000" y="537372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348000" y="580536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5373720"/>
            <a:ext cx="46512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580536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6165720"/>
            <a:ext cx="46512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4005360"/>
            <a:ext cx="43200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76360" y="3573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3213000"/>
            <a:ext cx="432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3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321300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3573360"/>
            <a:ext cx="461880" cy="22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4005360"/>
            <a:ext cx="461880" cy="22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24000" y="62064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9400" y="620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43280" y="54936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549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97080" y="465300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9248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4653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1760" y="4653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2565360"/>
            <a:ext cx="201600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46320" y="256536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8000" y="2421000"/>
            <a:ext cx="2016360" cy="19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83400" y="2421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128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32000" y="2852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501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4360" y="530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5589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4360" y="587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6165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9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869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157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31417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3429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3716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4005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6720" y="5229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76720" y="5516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76720" y="5805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609300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3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4836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4836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67640" y="270828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7640" y="299736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67640" y="328464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67640" y="3573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67640" y="3860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364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24360" y="83664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24360" y="112536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24360" y="1413000"/>
            <a:ext cx="5353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24360" y="170028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24360" y="1989000"/>
            <a:ext cx="5353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7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8436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8436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5600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-$2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03640" y="90792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03640" y="119700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3640" y="155736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1844640"/>
            <a:ext cx="5349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2133720"/>
            <a:ext cx="53496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000" spc="-1" strike="noStrike">
                <a:solidFill>
                  <a:srgbClr val="000000"/>
                </a:solidFill>
                <a:latin typeface="Arial"/>
              </a:rPr>
              <a:t>$18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7T05:00:55Z</dcterms:created>
  <dc:creator>Natalcalo</dc:creator>
  <dc:description/>
  <dc:language>en-US</dc:language>
  <cp:lastModifiedBy>Facultad de Economía</cp:lastModifiedBy>
  <dcterms:modified xsi:type="dcterms:W3CDTF">2007-03-09T21:24:45Z</dcterms:modified>
  <cp:revision>40</cp:revision>
  <dc:subject/>
  <dc:title>Diapositiva 1</dc:title>
</cp:coreProperties>
</file>